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B2D-F46C-412E-B186-CEC6D8F7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B1B-AAA3-4DC5-9FB0-47B45154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693-D6F0-4CCB-AD0B-107AA21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818-3140-43D9-BA0C-7ED8091B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2F2-155D-44D0-B753-1A609BB6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DF9-BFF8-4497-9172-2A842D8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141-1F6A-410F-9BFF-287E2E4A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4DA-522E-40B5-8AE5-6F4899C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243-D23F-48EE-9EFD-974B087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B33-CB1C-4876-90D3-6513075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278-680D-42AB-A62E-7DF2BC5C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35F-8092-4ABC-BCE2-08D36DD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492-791C-4AA9-94C4-9ACC86AB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lay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: Josh DeGuz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1623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9718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0958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7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 bound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iding bou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809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62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647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419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8:56Z</dcterms:created>
  <dc:creator>jdeguzman</dc:creator>
  <dc:description/>
  <dc:language>en-US</dc:language>
  <cp:lastModifiedBy>joshua</cp:lastModifiedBy>
  <dcterms:modified xsi:type="dcterms:W3CDTF">2011-03-18T17:47:22Z</dcterms:modified>
  <cp:revision>5</cp:revision>
  <dc:subject/>
  <dc:title>Earth’s layers </dc:title>
</cp:coreProperties>
</file>